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0675-0A42-4A9E-8F88-C165D3FF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6A8-5333-4F12-947F-92F3E0D3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D4D-DCCF-4283-8960-FADE636D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D0EE-3164-449F-8B52-A180516A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312B-8B86-496E-BECF-2514803B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D34-0285-447F-A7B8-FF77B5AD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365-95EE-4570-A1B4-A2A07C1C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097-DB4A-4D6E-8F14-6859ED7B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4AA-6400-4646-B396-43D28E75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3C7C-AA21-4219-AE37-0642C702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441F-D443-4849-BD66-56006304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ABA-E6B0-4F8E-A91C-2C586A8B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6BF8-4761-4DB1-A7B0-2B346F5E6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xis Inter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 you have your assig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Metho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2x –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y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 0 = 2x –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x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y = 2(0) –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 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4737240" y="1843200"/>
            <a:ext cx="3860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Metho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 + 6y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y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   2x + 6(0)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x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   2(0) + 6y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4648320" y="1765440"/>
            <a:ext cx="40384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Metho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x = 2y –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y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6x = 2(0) –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x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6(0) = 2y –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4648320" y="1768320"/>
            <a:ext cx="403848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Metho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½ x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y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   0= ½ x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x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 y = ½ (0)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4648320" y="177480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2:57:33Z</dcterms:created>
  <dc:creator>Preferred Customer</dc:creator>
  <dc:description/>
  <dc:language>en-US</dc:language>
  <cp:lastModifiedBy>Troy</cp:lastModifiedBy>
  <dcterms:modified xsi:type="dcterms:W3CDTF">2009-10-14T14:11:15Z</dcterms:modified>
  <cp:revision>4</cp:revision>
  <dc:subject/>
  <dc:title>Axis Intercepts</dc:title>
</cp:coreProperties>
</file>